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E363-849E-4E21-A969-1645CDBEE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75EF-1C2E-4B75-A39C-D424BE3A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0B18-7328-4440-90FA-993F20E2D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E325-E500-4EB0-8039-E44320B91F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B150-6723-4A95-B598-ED0DE2ECC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DF9C-CD37-42E1-8631-00A196B3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B340-06AA-4A3E-93C3-F5BDA0C41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3FA5-F874-4B54-830D-7CCD96CA5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440F-2958-464D-B244-0FD52B7B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E7A0-E580-45D8-A06D-11C93D726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F89D-17AC-4594-BE90-E8D842361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3884-FFED-4CA2-A6BA-70B2CA56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C834-A722-45EE-B950-3BF051B71F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e3df3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600" spc="-1" strike="noStrike">
                <a:solidFill>
                  <a:srgbClr val="99cc00"/>
                </a:solidFill>
                <a:latin typeface="Monotype Corsiva"/>
              </a:rPr>
              <a:t>Declinaciones </a:t>
            </a:r>
            <a:br>
              <a:rPr sz="9600"/>
            </a:br>
            <a:r>
              <a:rPr b="1" lang="es-ES" sz="9600" spc="-1" strike="noStrike">
                <a:solidFill>
                  <a:srgbClr val="99cc00"/>
                </a:solidFill>
                <a:latin typeface="Monotype Corsiva"/>
              </a:rPr>
              <a:t>de la </a:t>
            </a:r>
            <a:br>
              <a:rPr sz="9600"/>
            </a:br>
            <a:r>
              <a:rPr b="1" lang="es-ES" sz="9600" spc="-1" strike="noStrike">
                <a:solidFill>
                  <a:srgbClr val="99cc00"/>
                </a:solidFill>
                <a:latin typeface="Monotype Corsiva"/>
              </a:rPr>
              <a:t>lengua Latin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Declinar consiste en un ejercicio muy útil, mediante el cual repasarás todas las posibles terminaciones o desinencias de una palabra. Observa el siguiente cuadr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179280" y="2421000"/>
          <a:ext cx="8848800" cy="2712960"/>
        </p:xfrm>
        <a:graphic>
          <a:graphicData uri="http://schemas.openxmlformats.org/drawingml/2006/table">
            <a:tbl>
              <a:tblPr/>
              <a:tblGrid>
                <a:gridCol w="1327320"/>
                <a:gridCol w="2736720"/>
                <a:gridCol w="2973600"/>
                <a:gridCol w="868320"/>
                <a:gridCol w="942840"/>
              </a:tblGrid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s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en la fr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ducción del 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ural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202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min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oc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s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ni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la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jeto/atribu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clam./Llamada/Salu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Directo / Ccl a dón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del Nomb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Indirec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Circunstanc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la, una)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¡(la, una) orilla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 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, para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, con , en , por </a:t>
                      </a: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oril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u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-</a:t>
                      </a:r>
                      <a:r>
                        <a:rPr b="0" lang="es-ES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8800" spc="-1" strike="noStrike">
                <a:solidFill>
                  <a:srgbClr val="000000"/>
                </a:solidFill>
                <a:latin typeface="Monotype Corsiva"/>
              </a:rPr>
              <a:t>Primera Declinación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2484360" y="1844640"/>
          <a:ext cx="4575240" cy="4525920"/>
        </p:xfrm>
        <a:graphic>
          <a:graphicData uri="http://schemas.openxmlformats.org/drawingml/2006/table">
            <a:tbl>
              <a:tblPr/>
              <a:tblGrid>
                <a:gridCol w="1967040"/>
                <a:gridCol w="1492200"/>
                <a:gridCol w="111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Cas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Singula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Plu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Nomin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Voc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Acus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Geni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ru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D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99cc00"/>
                          </a:solidFill>
                          <a:latin typeface="Monotype Corsiva"/>
                        </a:rPr>
                        <a:t>Ablativ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   </a:t>
                      </a:r>
                      <a:r>
                        <a:rPr b="0" lang="es-ES" sz="2800" spc="-1" strike="noStrike">
                          <a:solidFill>
                            <a:srgbClr val="ff0000"/>
                          </a:solidFill>
                          <a:latin typeface="Monotype Corsiva"/>
                        </a:rPr>
                        <a:t>-i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6e5c2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onotype Corsiva"/>
              </a:rPr>
              <a:t>Realizado por:     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Albano Camach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Monotype Corsiva"/>
              </a:rPr>
              <a:t>Biografía:       </a:t>
            </a: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Libro de Latín – Quorum Editor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Monotype Corsiva"/>
              </a:rPr>
              <a:t>(Fco. Vera Bustamante y M. Luisa Aguinaga Delgad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9T13:30:55Z</dcterms:created>
  <dc:creator>Albano</dc:creator>
  <dc:description/>
  <dc:language>en-US</dc:language>
  <cp:lastModifiedBy>AUDIOLEASK</cp:lastModifiedBy>
  <dcterms:modified xsi:type="dcterms:W3CDTF">2012-12-16T15:48:56Z</dcterms:modified>
  <cp:revision>3</cp:revision>
  <dc:subject/>
  <dc:title>Declinaciones  de la  lengua Latina</dc:title>
</cp:coreProperties>
</file>